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78F-DF8D-4ED5-80FD-0F0C653C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C64-A9DC-4F3F-AE01-EC89BBB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F88-129B-4E1F-95B5-D8DC2F54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8B0-5542-45F9-B542-89013A43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274-D173-48AE-A2AF-B87BE69C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6201-E7C3-435D-95EF-C9090BE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C251-4E6F-4E8B-9866-AF8BF4C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CDE-32DE-43E1-A56E-AEEF32A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1E2-464F-477D-A8D9-1C9B042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E827-9D98-4F06-AEF9-F52ED431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E7B0-F44D-4D64-9003-76D4E1E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5D7-4B75-483D-B60E-A8C657FB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A880-7D99-4C82-8187-350DDA5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0992-04D1-4E7B-B184-62FE163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325E-C1A5-4892-9E03-D123548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1AEB-AB25-45F4-A49E-92B493C1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AD10-BE5B-43C2-8A02-79E77FAA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B84-E93B-4BD0-BD7E-1FA8780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F4C-37B9-482A-ABFE-40CE46E6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434-05FC-43D7-AB26-F12227C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1DE-A52B-43F6-9237-EE826C34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D94-0922-48CE-99E0-72D5CD3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E95-F4DE-4291-9B84-16617F3E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810-6AAA-4CBE-9D2A-D26B696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89B-5614-4ACF-A6C5-257D6E648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6E8-78EC-4EBD-A432-629C72CE9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b7e7ff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0400" y="3909960"/>
            <a:ext cx="664236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comp_i"/>
          <p:cNvPicPr/>
          <p:nvPr/>
        </p:nvPicPr>
        <p:blipFill>
          <a:blip r:embed="rId2"/>
          <a:stretch/>
        </p:blipFill>
        <p:spPr>
          <a:xfrm>
            <a:off x="5205240" y="2197080"/>
            <a:ext cx="13032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9T11:15:1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